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254-4FB4-4904-AF82-E367A293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607-6E89-4810-9D35-2BB8EFB8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F93-9844-41A4-AD7F-150D5D96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9E8-C546-4913-BCF1-8CDDA7BE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B08-62B0-4561-989B-1D790BA5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0A0-84BD-4823-B816-B13C6BE7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8F3-7CFC-48EF-8B1E-8874530A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7125-084D-4830-B8D7-C6DA8CCA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CB6-0092-480A-8239-6DE22276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E6F-431E-4552-88B5-170A2E8A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80A-9FC9-4A35-A8A8-382E6CD2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F41-EF81-4631-B909-613697CC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F50B-8EC0-4376-B79E-28EA085E7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’re dreaming of a Happy Christmas  everybody has a happ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r draws to an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enemies become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ve embraces the human ra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pe this dream comes tr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rry Christm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ts of lo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Greek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childTnLst>
                                    <p:set>
                                      <p:cBhvr>
                                        <p:cTn id="6" dur="1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7574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3:09:39Z</dcterms:created>
  <dc:creator>5o DHMOTIKO AMAROUSIOU</dc:creator>
  <dc:description/>
  <dc:language>en-US</dc:language>
  <cp:lastModifiedBy>5o DHMOTIKO AMAROUSIOU</cp:lastModifiedBy>
  <dcterms:modified xsi:type="dcterms:W3CDTF">2011-12-12T12:22:32Z</dcterms:modified>
  <cp:revision>3</cp:revision>
  <dc:subject/>
  <dc:title>Διαφάνεια 1</dc:title>
</cp:coreProperties>
</file>